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081-BE95-4A85-BEFC-BD6DCDDB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9A0-BC02-4B83-8F21-3E174E48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1B2-26B3-4E65-A7B4-5CD64B88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6AF-9F1B-467E-8CE0-8B88FFF8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C925-D65B-448F-B8C8-52C3220F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D12A-A18C-4BF8-94E9-B4793519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7CC7-B4A4-4D9B-8279-1DC1FCFE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122B-89C2-41D3-9BDD-62C58B2A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C97D-A088-4F44-A7CF-EAED1E3F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5DFB-C100-48BF-8EFB-07DA9570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625B-62D0-4D3E-A561-80F60619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BAB-26FF-4EF7-AC70-87AB9075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F48C-17BB-4800-BD71-C5F4394E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FC24-10E8-4B7E-A6F3-3DD64E49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D204-3750-4008-99E6-2BEF2296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A0DD-2D2D-4DE0-A70A-CE2CFB32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0FAF-5291-4A8F-9B8A-45D770A8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21370-9A2D-4E91-A6ED-D2BCA162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60BEC-2AFD-40C8-A677-AA68D1FA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87840-A8F1-4B77-B68B-4A7B4C7C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51D6-585D-4C9A-8FA5-ABDAF72D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838FC-EE1B-4E76-9235-A032F579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2FE-42B5-46F2-88F2-743ADC23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D5DB9-9DF0-4BDF-92C0-0A070354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B91A-8B63-42BC-878D-C2479935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98A98-895E-4FB4-8A28-DCD81680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D47F-57FC-4ADA-AA01-1BA1FD4C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8BE8-A8A7-451B-9871-ADCB6E66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4F27E-DB69-4A00-BEC8-B4425946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5840E-6907-4089-BDEE-D82ACADE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15EF4-E3DA-4651-A91F-B805D675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96137-CE65-436A-BAA3-C52C4C0C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4F34D-E52F-4FA1-9859-507D5689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DE4-618E-43BA-8044-5177872A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40F46-A33F-430B-BC69-6490FC3A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CFC73-A9CD-4510-A554-4C69D882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19473-C2D2-4167-AE0D-10C11A35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AC51-72E1-4F46-B641-11AC9AD5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9A881-D9B4-4009-990A-DE48A10D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1AA9D-A136-4B13-816A-06C1921D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69248-08A0-49A2-BA01-CAAFB1C8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551C2-4938-4270-A45A-65538CCB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B4FE6-6AE2-4D36-BBAA-8FFD42AF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2356B-3DBA-4EBC-B691-1E1A55C9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941-CBCE-4626-BC33-0FF30F2C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436E4-7AA2-46C3-9990-9077DE20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85F02-0A72-4E0B-914A-7812F60A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3CB49-ABDA-4EEB-A612-5F75317A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96EBB-72AE-4D85-B90D-FF24C263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C7E7A-537F-40A0-BBBE-8A505005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07482-3094-414A-9D05-5EE05434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591FE-BB56-43F4-97FE-2D92C811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643CB-11BC-4D1C-A01D-1FA4E3ED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60423-CEC6-4EB9-AE28-3D6FAB44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89BB9-0EBD-4951-91D5-45043B7B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333-C539-483F-8910-D0635F4F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73D1B-DEB5-4B6A-AC2B-83277412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96A65-7A24-4FE1-AC3D-53FE9500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17C88-B330-479E-A10D-3838AA82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51BBE-7866-4536-94BA-308C7DEE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E34B2-E6A3-4A52-821C-E4DD76DB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E1F3E-8992-4C06-87E0-9F53F2E0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EACC2-39AF-4324-AA11-29241415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99814-E7C0-4729-9264-14DF03C2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E98BF-1EFA-4B6C-A135-F312660D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87844-0F3D-4693-8CBD-12A6216A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2A4-996B-4F6C-8CA9-A6177DD9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9256C-58FD-43A8-B129-2613CC1E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00C59-35E7-40CC-B5FE-D700740D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3F6B0-A170-4214-ACC8-66E43767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D8D3C-9C5C-4DFF-A0A7-45896BE1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54531-4B5E-41E0-8111-F08F2DFC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CEFAF-543B-49DE-AF69-963DB142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E2D10-BD7B-4B29-82EE-545F3F88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281B6-BB51-41E3-AE17-DAE30E2E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2147E-03F6-427B-B59D-D0671031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B27B0-E47A-41DF-8A0A-F1D734CC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9DA-A400-445D-91AB-7DEFF657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66466-4AC5-42FF-9FD0-B5A355CE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96CB3-E352-4A61-9ED4-84CFCA64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4CBE9-FC76-4B02-B4E0-686490DE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46F91-FF54-45A3-B43B-003D694F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41B58-515A-4DD4-8B20-6377AC15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650-7D71-460C-B64E-302E98BC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5408-BDF1-414C-8D1E-A253EFD15C84}" type="slidenum"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ECB2-584F-43E0-9F1E-E84D79928CE6}" type="slidenum"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6332-EF9C-4746-91DC-113930C15BF2}" type="slidenum"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7F4C-DE50-4F37-9F33-B4C2CBF41FF2}" type="slidenum"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93DA-8101-453C-BCEC-3BDBE246978B}" type="slidenum"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80FA-582D-48FD-AB3D-AFFB0C996268}" type="slidenum"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507F-4F81-4325-A09B-1828A187F6A9}" type="slidenum"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atau.vadoveliai.lt/patarimai/?cat=22" TargetMode="External"/><Relationship Id="rId2" Type="http://schemas.openxmlformats.org/officeDocument/2006/relationships/hyperlink" Target="http://matau.vadoveliai.lt/vadoveliai/?cat=14" TargetMode="External"/><Relationship Id="rId3" Type="http://schemas.openxmlformats.org/officeDocument/2006/relationships/hyperlink" Target="http://www.pedagogika.lt/index.php?-469374926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lt-LT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19" name="Subtitle 2"/>
          <p:cNvGrpSpPr/>
          <p:nvPr/>
        </p:nvGrpSpPr>
        <p:grpSpPr>
          <a:xfrm>
            <a:off x="1494000" y="506520"/>
            <a:ext cx="6716520" cy="5400720"/>
            <a:chOff x="1494000" y="506520"/>
            <a:chExt cx="6716520" cy="5400720"/>
          </a:xfrm>
        </p:grpSpPr>
        <p:pic>
          <p:nvPicPr>
            <p:cNvPr id="320" name="Subtitle 2" descr=""/>
            <p:cNvPicPr/>
            <p:nvPr/>
          </p:nvPicPr>
          <p:blipFill>
            <a:blip r:embed="rId1"/>
            <a:stretch/>
          </p:blipFill>
          <p:spPr>
            <a:xfrm>
              <a:off x="1494000" y="506520"/>
              <a:ext cx="67165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571760" y="907920"/>
              <a:ext cx="6557760" cy="48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marL="270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1" lang="lt-LT" sz="6600" spc="-1" strike="noStrike">
                  <a:solidFill>
                    <a:srgbClr val="002060"/>
                  </a:solidFill>
                  <a:latin typeface="Gill Sans MT"/>
                </a:rPr>
                <a:t>Matematika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marL="2700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6600" spc="-1" strike="noStrike">
                  <a:solidFill>
                    <a:srgbClr val="002060"/>
                  </a:solidFill>
                  <a:latin typeface="Gill Sans MT"/>
                </a:rPr>
                <a:t>         </a:t>
              </a:r>
              <a:r>
                <a:rPr b="1" lang="lt-LT" sz="6600" spc="-1" strike="noStrike">
                  <a:solidFill>
                    <a:srgbClr val="002060"/>
                  </a:solidFill>
                  <a:latin typeface="Gill Sans MT"/>
                </a:rPr>
                <a:t>Tau</a:t>
              </a:r>
              <a:br>
                <a:rPr sz="6600"/>
              </a:br>
              <a:r>
                <a:rPr b="1" lang="lt-LT" sz="4800" spc="-1" strike="noStrike">
                  <a:solidFill>
                    <a:srgbClr val="002060"/>
                  </a:solidFill>
                  <a:latin typeface="Gill Sans MT"/>
                </a:rPr>
                <a:t>        6 klas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marL="270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5400" spc="-1" strike="noStrike">
                  <a:solidFill>
                    <a:srgbClr val="002060"/>
                  </a:solidFill>
                  <a:latin typeface="Arial"/>
                </a:rPr>
                <a:t>Apžvalg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marL="270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95c03a"/>
                  </a:solidFill>
                  <a:latin typeface="Gill Sans MT"/>
                </a:rPr>
                <a:t>Parengė Griškabūdžio v. m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270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95c03a"/>
                  </a:solidFill>
                  <a:latin typeface="Gill Sans MT"/>
                </a:rPr>
                <a:t>matematikos mokytoja metodinink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270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95c03a"/>
                  </a:solidFill>
                  <a:latin typeface="Gill Sans MT"/>
                </a:rPr>
                <a:t>Ilona Tamulien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270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marL="270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6300720" y="2205000"/>
            <a:ext cx="10080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99760" y="285480"/>
            <a:ext cx="7497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9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lt-LT" sz="3900" spc="-1" strike="noStrike">
                <a:solidFill>
                  <a:srgbClr val="000000"/>
                </a:solidFill>
                <a:latin typeface="Gill Sans MT"/>
              </a:rPr>
              <a:t>9. </a:t>
            </a:r>
            <a:r>
              <a:rPr b="1" lang="lt-LT" sz="3900" spc="-1" strike="noStrike">
                <a:solidFill>
                  <a:srgbClr val="000000"/>
                </a:solidFill>
                <a:latin typeface="Arial"/>
                <a:ea typeface="Arial"/>
              </a:rPr>
              <a:t>Erdviniai kūnai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28480" y="14284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vietoj piramidės nagrinėjama stačioji prizmė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neskaičiuojamas paviršiaus plotas ir tūris kūnų, kurie yra kelių erdvinių kūnų junginiai – pagal PUBP tai VII–VIII klasių kurs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7905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300" spc="-1" strike="noStrike">
                <a:solidFill>
                  <a:srgbClr val="572314"/>
                </a:solidFill>
                <a:latin typeface="Arial"/>
                <a:ea typeface="Arial"/>
              </a:rPr>
              <a:t>Literatūr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652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matau.vadoveliai.lt/patarimai/?cat=2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matau.vadoveliai.lt/vadoveliai/?cat=1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pedagogika.lt/index.php?-46937492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4"/>
          <a:stretch/>
        </p:blipFill>
        <p:spPr>
          <a:xfrm>
            <a:off x="4140360" y="620640"/>
            <a:ext cx="880920" cy="1152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"/>
          <p:cNvPicPr/>
          <p:nvPr/>
        </p:nvPicPr>
        <p:blipFill>
          <a:blip r:embed="rId5"/>
          <a:stretch/>
        </p:blipFill>
        <p:spPr>
          <a:xfrm>
            <a:off x="5435640" y="620640"/>
            <a:ext cx="865080" cy="1176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6"/>
          <a:stretch/>
        </p:blipFill>
        <p:spPr>
          <a:xfrm>
            <a:off x="6516720" y="620640"/>
            <a:ext cx="863640" cy="1152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"/>
          <p:cNvPicPr/>
          <p:nvPr/>
        </p:nvPicPr>
        <p:blipFill>
          <a:blip r:embed="rId7"/>
          <a:stretch/>
        </p:blipFill>
        <p:spPr>
          <a:xfrm>
            <a:off x="7667640" y="620640"/>
            <a:ext cx="9223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300" spc="-1" strike="noStrike">
                <a:solidFill>
                  <a:srgbClr val="572314"/>
                </a:solidFill>
                <a:latin typeface="Gill Sans MT"/>
              </a:rPr>
              <a:t>1. Geometrinės figūr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Apskritimo ilgis, daugiakampio ir skritulio plotai atnaujintose PUBP perkelti į VII–VIII klasių koncentrą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Programa papildyta trikampių skirstymu į grupes pagal kraštin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(į lygiašonius, lygiakraščius, įvairiakraščius) arba pagal kampu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(į smailiuosius, stačiuosius, bukuosius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7956720" y="476280"/>
            <a:ext cx="792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45920" y="692280"/>
            <a:ext cx="5157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900" spc="-1" strike="noStrike">
                <a:solidFill>
                  <a:srgbClr val="572314"/>
                </a:solidFill>
                <a:latin typeface="Gill Sans MT"/>
              </a:rPr>
              <a:t>2. Natūraliųjų skaičių </a:t>
            </a:r>
            <a:br>
              <a:rPr sz="3900"/>
            </a:br>
            <a:r>
              <a:rPr b="1" lang="lt-LT" sz="3900" spc="-1" strike="noStrike">
                <a:solidFill>
                  <a:srgbClr val="572314"/>
                </a:solidFill>
                <a:latin typeface="Gill Sans MT"/>
              </a:rPr>
              <a:t>           dalumas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  <a:ea typeface="Arial"/>
              </a:rPr>
              <a:t>Atnaujintose PUBP nė viename koncentre nėra paminėti nei pirminiai, nei sudėtiniai skaičiai, todėl jų pagrindinėje mokykloje galima ir neįvesti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  <a:ea typeface="Arial"/>
              </a:rPr>
              <a:t>PUBP taip pat nėra skaičiaus skaidymo </a:t>
            </a:r>
            <a:r>
              <a:rPr b="0" lang="lt-LT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irminiai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  <a:ea typeface="Arial"/>
              </a:rPr>
              <a:t> dauginamaisiais, yra tik skaičiaus skaidymas </a:t>
            </a:r>
            <a:r>
              <a:rPr b="0" lang="lt-LT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uginamaisiai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Todėl, pvz., užrašas 24 = 4 · 6 visiškai atitiktų PUBP. Galite tą skaidymą ir pratęsti: 24 = 4 · 6 = 2 · 2 · 2 · 3, neaiškindami, kad gautieji skaičiai jau yra pirminia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7956720" y="476280"/>
            <a:ext cx="792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Title 1"/>
          <p:cNvGrpSpPr/>
          <p:nvPr/>
        </p:nvGrpSpPr>
        <p:grpSpPr>
          <a:xfrm>
            <a:off x="1200240" y="36360"/>
            <a:ext cx="7974000" cy="1621080"/>
            <a:chOff x="1200240" y="36360"/>
            <a:chExt cx="7974000" cy="1621080"/>
          </a:xfrm>
        </p:grpSpPr>
        <p:pic>
          <p:nvPicPr>
            <p:cNvPr id="330" name="Title 1" descr=""/>
            <p:cNvPicPr/>
            <p:nvPr/>
          </p:nvPicPr>
          <p:blipFill>
            <a:blip r:embed="rId1"/>
            <a:stretch/>
          </p:blipFill>
          <p:spPr>
            <a:xfrm>
              <a:off x="1200240" y="36360"/>
              <a:ext cx="797400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3900" spc="-1" strike="noStrike">
                  <a:solidFill>
                    <a:srgbClr val="572314"/>
                  </a:solidFill>
                  <a:latin typeface="Gill Sans MT"/>
                </a:rPr>
                <a:t>3. Trupmeniniai skaičiai</a:t>
              </a:r>
              <a:br>
                <a:rPr sz="3900"/>
              </a:b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Pagal PUBP mokiniai turi gebėti apvalinti skaičius tik iki dešimtųjų ir šimtųjų, todėl kai kuriuos uždavinius galima praleisti arba spręsti tik atskiras jų dal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Galima nenagrinėti dešimtainių periodinių trupmenų – pagal atnaujintas PUBP jos perkeltos į VII–VIII klasių koncentrą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2"/>
          <a:stretch/>
        </p:blipFill>
        <p:spPr>
          <a:xfrm>
            <a:off x="7956720" y="476280"/>
            <a:ext cx="792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900" spc="-1" strike="noStrike">
                <a:solidFill>
                  <a:srgbClr val="572314"/>
                </a:solidFill>
                <a:latin typeface="Gill Sans MT"/>
              </a:rPr>
              <a:t>4. Paprastosios trupmenos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600" y="2133720"/>
            <a:ext cx="673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V–VI kl.) sudėti, atimti, dauginti ir dalyti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paprastąsias trupmenas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(VII–VIII kl.) atlikti veiksmus su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įvairiomis trupmenomis, neigiamaisiais ir mišriaisiais skaičiais</a:t>
            </a:r>
            <a:r>
              <a:rPr b="0" lang="lt-LT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7956720" y="333360"/>
            <a:ext cx="792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900" spc="-1" strike="noStrike">
                <a:solidFill>
                  <a:srgbClr val="572314"/>
                </a:solidFill>
                <a:latin typeface="Gill Sans MT"/>
              </a:rPr>
              <a:t>5. Tūriai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ill Sans MT"/>
              </a:rPr>
              <a:t>Keldami kubu, stengtis naudoti tik mažus skaičius (pagal atnaujintas PUBP mažas skaičius suprantamas kaip 1; 2; …; 9; 0,1; 0,2; …; 0,9; 10; 20; …; 90)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ill Sans MT"/>
              </a:rPr>
              <a:t>Tik su stipresniais mokiniais skaičiuokiti tūrius kūnų, kurie yra kelių žinomų, vienas kito nedengiančių (susiliečiančių) kūnų junginiai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lt-LT" sz="3200" spc="-1" strike="noStrike">
                <a:solidFill>
                  <a:srgbClr val="000000"/>
                </a:solidFill>
                <a:latin typeface="Gill Sans MT"/>
              </a:rPr>
              <a:t>(pagal PUBP – tai VII–VIII klasių    kursa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7740720" y="333360"/>
            <a:ext cx="10080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6191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lt-LT" sz="3900" spc="-1" strike="noStrike">
                <a:solidFill>
                  <a:srgbClr val="572314"/>
                </a:solidFill>
                <a:latin typeface="Gill Sans MT"/>
              </a:rPr>
              <a:t>   </a:t>
            </a:r>
            <a:r>
              <a:rPr b="1" lang="lt-LT" sz="3900" spc="-1" strike="noStrike">
                <a:solidFill>
                  <a:srgbClr val="572314"/>
                </a:solidFill>
                <a:latin typeface="Gill Sans MT"/>
              </a:rPr>
              <a:t>6. Tarpusavyje susiję</a:t>
            </a:r>
            <a:br>
              <a:rPr sz="3900"/>
            </a:br>
            <a:r>
              <a:rPr b="1" lang="lt-LT" sz="3900" spc="-1" strike="noStrike">
                <a:solidFill>
                  <a:srgbClr val="572314"/>
                </a:solidFill>
                <a:latin typeface="Gill Sans MT"/>
              </a:rPr>
              <a:t>          dydžiai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331640" y="141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Gill Sans MT"/>
              </a:rPr>
              <a:t>Esminiai šio skyriaus pasikeitimai (pagal atnaujintas PUBP) – į VII–VIII klasių koncentrą iškeltos dvi temos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Gill Sans MT"/>
              </a:rPr>
              <a:t>duotosios figūros vaizdavimas nurodytu masteliu;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Gill Sans MT"/>
              </a:rPr>
              <a:t>skaičiaus modulis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7956720" y="476280"/>
            <a:ext cx="792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1206360" y="66600"/>
            <a:ext cx="7755120" cy="1371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499760" y="1571400"/>
            <a:ext cx="7209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Atnaujintose PUBP V–VI klasėse nerekomenduojama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pertvarkyti pavidalo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·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±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·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raidinius reiškinius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spręsti pavidalo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·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±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·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lygtis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naudoti nelygybių ženklus ≥ ir ≤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Reiškinių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·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±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·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pertvarkymai ir lygčių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·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±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·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sprendimas yra iškeltas į VII–VIII klases, o ženklai ≥ ir ≤ įvedami tik IX–X klasėse. Tačiau sąvokos „ne didesnis“, „ne mažesnis“ jau paminėtos VII–VIII klasėse. Kaip suktis iš šios situacijos, paliekama spręsti patiems mokytojams – galima paklausti ir programų autorių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Kita vertus, visą šį skyrių galima ir praleisti, nes tai, ką rekomenduoja atnaujintos PUBP, išsamiai išdėstyta V klasės vadovėlyje. Tačiau manome, jog tai būtų netikslinga. Kad mokiniai nepamirštų lygčių ir nelygybių, vis dėlto siūlome skirti 2–3 pamokas (mokytojo nuožiūra) šioms temoms pakartot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900" spc="-1" strike="noStrike">
                <a:solidFill>
                  <a:srgbClr val="572314"/>
                </a:solidFill>
                <a:latin typeface="Gill Sans MT"/>
              </a:rPr>
              <a:t>8. </a:t>
            </a:r>
            <a:r>
              <a:rPr b="1" lang="lt-LT" sz="3900" spc="-1" strike="noStrike">
                <a:solidFill>
                  <a:srgbClr val="572314"/>
                </a:solidFill>
                <a:latin typeface="Arial"/>
                <a:ea typeface="Arial"/>
              </a:rPr>
              <a:t>Duomenų rinkimas ir tvarkymas. Rinkiniai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9360">
            <a:solidFill>
              <a:srgbClr val="964305"/>
            </a:solidFill>
            <a:miter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32d47"/>
                </a:solidFill>
                <a:latin typeface="Gill Sans MT"/>
              </a:rPr>
              <a:t>Šiame skyriuje pateikta medžiaga visiškai atitinka PUBP reikalavimu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572000" y="4005360"/>
            <a:ext cx="865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04:54:16Z</dcterms:created>
  <dc:creator>Ilona</dc:creator>
  <dc:description/>
  <cp:keywords>23</cp:keywords>
  <dc:language>en-US</dc:language>
  <cp:lastModifiedBy>Ilona</cp:lastModifiedBy>
  <dcterms:modified xsi:type="dcterms:W3CDTF">2011-01-18T19:29:01Z</dcterms:modified>
  <cp:revision>40</cp:revision>
  <dc:subject/>
  <dc:title>1. Geometrinės figūros 1. Apskritimo ilgis, daugiakampio ir skritulio plotai atnaujintose PUBP perkelti į VII–VIII klasių koncentrą;  2. Programa papildyta trikampių skirstymu į grupes pagal kraštines (į lygiašonius, lygiakraščius, įvairiakraščius) arba pagal kampus (į smailiuosius, stačiuosius, bukuosius).</dc:title>
</cp:coreProperties>
</file>